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CEF1-275F-4909-A612-06ECB49EB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98AC-998F-4B45-BE46-BD0FB1480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3B00-FFFD-4908-ACE4-9F0463CB7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7DB2-95B2-44A7-8BFD-C578F5EC5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D4AF-65E2-4E49-B53E-5CDE25E77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21E7-9CD7-4E69-8480-52E76A2C9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99E8-54A0-497B-88FA-62FA058EF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D6DE-D80F-4FC5-ADFA-0EA44F362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4F6A-C42E-4AC1-8211-B9DADA195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45CA-6082-4AE8-B46E-01067E548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3001-F32E-47AA-A54C-F4840A92E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81CE-0897-46FD-BC85-17DCB0B5F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DA47-621A-4B1D-B441-C4B537BB476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REVISÃO DOS BENEFÍCIOS POR INCAPACIDADE DE LONGA DU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MP nº 767/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26436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  <a:ea typeface="Arial"/>
              </a:rPr>
              <a:t>Fevereiro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82760" y="2220840"/>
          <a:ext cx="8232480" cy="3467160"/>
        </p:xfrm>
        <a:graphic>
          <a:graphicData uri="http://schemas.openxmlformats.org/drawingml/2006/table">
            <a:tbl>
              <a:tblPr/>
              <a:tblGrid>
                <a:gridCol w="1060200"/>
                <a:gridCol w="1177920"/>
                <a:gridCol w="1341360"/>
                <a:gridCol w="1287720"/>
                <a:gridCol w="1457280"/>
                <a:gridCol w="1908000"/>
              </a:tblGrid>
              <a:tr h="674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5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7.9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8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7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9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8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71600" y="2371680"/>
          <a:ext cx="8210520" cy="3597480"/>
        </p:xfrm>
        <a:graphic>
          <a:graphicData uri="http://schemas.openxmlformats.org/drawingml/2006/table">
            <a:tbl>
              <a:tblPr/>
              <a:tblGrid>
                <a:gridCol w="1368360"/>
                <a:gridCol w="3457440"/>
                <a:gridCol w="3384720"/>
              </a:tblGrid>
              <a:tr h="1015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ção do Benefí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4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 9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.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a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.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de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30200" y="2573280"/>
          <a:ext cx="8172360" cy="2382840"/>
        </p:xfrm>
        <a:graphic>
          <a:graphicData uri="http://schemas.openxmlformats.org/drawingml/2006/table">
            <a:tbl>
              <a:tblPr/>
              <a:tblGrid>
                <a:gridCol w="1546200"/>
                <a:gridCol w="2448000"/>
                <a:gridCol w="2089080"/>
                <a:gridCol w="2089080"/>
              </a:tblGrid>
              <a:tr h="83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 / Ano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3x valor R$ JAN/17)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s  / Ano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-Doenç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.794.218.34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8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.948.233.85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9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742.452.199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2"/>
          <p:cNvSpPr/>
          <p:nvPr/>
        </p:nvSpPr>
        <p:spPr>
          <a:xfrm>
            <a:off x="431640" y="5111640"/>
            <a:ext cx="8229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¹ o valor mínimo dos benefícios pagos pelo INSS – aposentadorias, auxílio-doença, pensão por morte –, das aposentadorias dos aeronautas e das pensões especiais pagas às vítimas da síndrome da talidomida será de R$ 937,00. Os segurados da Previdência Social que recebem acima do salário mínimo terão o benefício reajustado em 6,58%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43520" y="5478480"/>
            <a:ext cx="474048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alor Médio por Benefício/Mê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421  para Auxílio-Doen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632  para Aposentadoria por Invali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UXÍLIO-DOENÇ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38120" y="2279520"/>
          <a:ext cx="8231040" cy="3422880"/>
        </p:xfrm>
        <a:graphic>
          <a:graphicData uri="http://schemas.openxmlformats.org/drawingml/2006/table">
            <a:tbl>
              <a:tblPr/>
              <a:tblGrid>
                <a:gridCol w="1135080"/>
                <a:gridCol w="1114560"/>
                <a:gridCol w="1272960"/>
                <a:gridCol w="1287720"/>
                <a:gridCol w="1547640"/>
                <a:gridCol w="1873080"/>
              </a:tblGrid>
              <a:tr h="82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dddddd"/>
                      </a:solidFill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720">
                      <a:solidFill>
                        <a:srgbClr val="dddddd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5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8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4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62"/>
          <p:cNvSpPr/>
          <p:nvPr/>
        </p:nvSpPr>
        <p:spPr>
          <a:xfrm>
            <a:off x="360000" y="575928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POSENTADORIAS POR INVALIDE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82320" y="607860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7720" y="2359080"/>
          <a:ext cx="8229600" cy="3508200"/>
        </p:xfrm>
        <a:graphic>
          <a:graphicData uri="http://schemas.openxmlformats.org/drawingml/2006/table">
            <a:tbl>
              <a:tblPr/>
              <a:tblGrid>
                <a:gridCol w="1074960"/>
                <a:gridCol w="1146240"/>
                <a:gridCol w="1433520"/>
                <a:gridCol w="1326960"/>
                <a:gridCol w="1468440"/>
                <a:gridCol w="1779480"/>
              </a:tblGrid>
              <a:tr h="90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0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.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1428840" y="2637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operacionalização do programa BILD (MP 767) está sendo realizada seguindo um fluxo linear que se inicia com a análise da capacidade de operação de cada agência. Mensurado a quantidade do atendimento por local, são emitidas cartas com convocações e configuradas as agendas de atendimento nas unidade presenciais. O segurado é orientado para realizar o agendamento por meio do canal remoto Central 135. Iniciada a operação em 13/01/20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a 5" descr=""/>
          <p:cNvPicPr/>
          <p:nvPr/>
        </p:nvPicPr>
        <p:blipFill>
          <a:blip r:embed="rId3"/>
          <a:stretch/>
        </p:blipFill>
        <p:spPr>
          <a:xfrm>
            <a:off x="676440" y="853920"/>
            <a:ext cx="82915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" descr=""/>
          <p:cNvPicPr/>
          <p:nvPr/>
        </p:nvPicPr>
        <p:blipFill>
          <a:blip r:embed="rId3"/>
          <a:stretch/>
        </p:blipFill>
        <p:spPr>
          <a:xfrm>
            <a:off x="247680" y="1295280"/>
            <a:ext cx="864864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3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71640" y="234936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69880" indent="-569880">
              <a:buClr>
                <a:srgbClr val="191966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MP nº 7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de 06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°09/MDSA/MF/MP</a:t>
            </a:r>
            <a:r>
              <a:rPr b="0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2/01/201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NOR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00000" y="2487600"/>
            <a:ext cx="7201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Obrigad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Leonardo de Melo Gade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Presidente do IN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971640" y="2349360"/>
            <a:ext cx="7200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ata de publicação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06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Escopo: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promover a revisão dos benefícios por incapacidade, de forma a averiguar-se a permanência da incapacidade laborativa dos beneficiários, com vistas a interrupção de possíveis pagamentos indevidos de benefícios conforme art. 59 da Lei nº 8.213/91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262160"/>
            <a:ext cx="8353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MEDIDA PROVISÓRIA Nº 767/201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enefícios por incapacidade mantidos há mais de dois anos, sem realização de perícia médica no período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posentados por invalidez com idade inferior a 60 anos de idade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1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rioridades de convocaçã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. Auxílio-doenç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. Aposentadoria por invalidez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everão ser convocados, prioritariamente, os beneficiários com menor idade e com benefícios mantidos há mais tem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s perícias de revisão serão realizadas por médicos peritos que aderirem ao programa, sem prejuízo ao atendimento da demanda ordinária do serviço médico-pericial das unidades do IN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averá pagamento de bônus ao médico perito referente à realização de cada perícia extraordiná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Estabelece fluxo de revisão dos BILDs concedidos judi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Não será cabível alteração de datas técnicas decorrentes do processo judicial (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ata do início da incapacidade, da doença ou do benefíci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O INSS poderá regulamentar a fixação de tais datas quando não constarem em seu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69840" y="217980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Nos casos em que ficar constatada a ausência da incapacidade laboral o benefício será cessado sem necessidade de manifestação prévia ou posterior do órgão de execução da PG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ei 8213/91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inda que concedidos judicialmente, os benefícios estão submetidos às regras de manutenção administrativas do IN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0880" y="2238480"/>
          <a:ext cx="7947000" cy="3389040"/>
        </p:xfrm>
        <a:graphic>
          <a:graphicData uri="http://schemas.openxmlformats.org/drawingml/2006/table">
            <a:tbl>
              <a:tblPr/>
              <a:tblGrid>
                <a:gridCol w="1800360"/>
                <a:gridCol w="1935000"/>
                <a:gridCol w="2046240"/>
                <a:gridCol w="2165400"/>
              </a:tblGrid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pécie do Benefício por Incapacida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e Benefícios mantidos há mais de 2 anos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 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 Doenç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.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 -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5.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105.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06.1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,0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+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3.8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s por Invalidez com mais de 60 anos de idade não serão convocado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89.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36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srael de Brito Silva - MPS</cp:lastModifiedBy>
  <cp:lastPrinted>2017-02-16T11:24:05Z</cp:lastPrinted>
  <dcterms:modified xsi:type="dcterms:W3CDTF">2017-02-16T11:43:08Z</dcterms:modified>
  <cp:revision>78</cp:revision>
  <dc:subject/>
  <dc:title>Slide 1</dc:title>
</cp:coreProperties>
</file>